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A2F-B072-4BE3-AB5C-D29CFAA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6B6-FE46-4989-AF40-43BCF9DD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5A1-C977-4A20-8F91-CF5F5ED8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758-8BFA-4C94-AD92-1EDB986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6B0-DB09-4E8C-8EA7-12C18888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179-4B78-4A0C-86B9-FA2E101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1C7-44B5-4968-B0B8-FC8D674E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AB2-D0D8-4D7A-84C3-79B24B9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EFD-FC1A-4A29-96CC-DE7E4544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81B-C0FE-4906-B404-43D57A5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806-C26D-4DA8-8C3D-426A056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056-4378-4085-9E33-8A290FF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944-9738-4CF5-97C0-BE4A3841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21:15Z</dcterms:created>
  <dc:creator>abeason</dc:creator>
  <dc:description/>
  <dc:language>en-US</dc:language>
  <cp:lastModifiedBy>abeason</cp:lastModifiedBy>
  <dcterms:modified xsi:type="dcterms:W3CDTF">2009-01-27T19:21:21Z</dcterms:modified>
  <cp:revision>1</cp:revision>
  <dc:subject/>
  <dc:title>Slide 1</dc:title>
</cp:coreProperties>
</file>